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"Новосёловская СОШ" Колпашевского райо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: Малеева Нина Геннадье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6164-C6CE-465D-898F-8516F05BB0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У "Новосёловская СОШ" Колпашевского район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втор: Малеева Нина Геннадьевна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BEE4-47BF-4BCA-AD24-EB11FB8BD05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157DA-7915-43C9-A925-884623CD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983DD-95E6-4E77-9520-AABFFB62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FB48-5EED-4159-A3DF-32137554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D9C6F-2121-4A4E-8284-843E4306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A513-CB50-4DB1-942D-7EBE89EF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843B-54C3-4B88-A9DB-ED0A04C5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12A2-0764-4C2C-9C1A-28F568F1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12FB-D9B6-452C-9A06-762EAA2C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64DC-C7A0-4EAF-9CED-7DE827A9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45F6-6C0D-425C-BAE6-D3EF4260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2BC9-15EE-4B7C-AE80-CC48DDBC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62808-CE13-4283-BD17-1E65B990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BA6C-F63B-40CA-99B9-88311224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668A-8D8D-4645-9C62-5ACF9681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B694-D063-4DA9-978D-CA981245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3C5E-CBA4-4629-A7A9-EC3E6805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6D35-E94E-4190-97BC-491DBA09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BE4B6-65B6-4CCD-8A67-F3A19778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07CD9-ED13-476C-8591-B64DA523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9E57F-6448-4795-B042-0ED8757F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72AB-33A4-43D8-82F4-7D321D33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1118A-6436-4C8E-8DA8-12578563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0BE6-5EE9-4AFF-86D3-A8CB7401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9C187-EF82-4D88-BA98-E681641C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B7FC-8DD6-4392-A7E3-40C73CD983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C76F-CF88-41EF-BA3F-6FA63798969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AD3A-D253-4103-9DAD-ECF6ED4A44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1052640"/>
            <a:ext cx="403236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«Симметрия вокруг нас».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372000" y="3429000"/>
            <a:ext cx="2771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тчёт о проведённом мероприят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4248360" cy="27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3059280" y="2637000"/>
            <a:ext cx="3384360" cy="2663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3"/>
          <a:srcRect l="11824" t="8907" r="0" b="7382"/>
          <a:stretch/>
        </p:blipFill>
        <p:spPr>
          <a:xfrm>
            <a:off x="324000" y="4149720"/>
            <a:ext cx="3492360" cy="244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699120" y="18900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«Новосёловская СОШ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4151160" y="5877000"/>
            <a:ext cx="40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Малеева Нина Геннадьевна,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A3F7-0F54-4439-B09A-72725E198F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ект работы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мастерской словес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rcRect l="12690" t="10665" r="0" b="9883"/>
          <a:stretch/>
        </p:blipFill>
        <p:spPr>
          <a:xfrm>
            <a:off x="1476360" y="1628640"/>
            <a:ext cx="644364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610B-529B-4E96-B73A-626B0C3B6A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абота в группах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(архитектурный отдел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4356000" y="3068640"/>
            <a:ext cx="4464000" cy="3552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960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493A-1D31-47E0-AC14-1702832DCC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ект работы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архитектурного отде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258920" y="1628640"/>
            <a:ext cx="61927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F464-90AB-4AB3-A2CC-5551D0A557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щита проектов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Симметрия в математике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456000" cy="2943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979640" y="3500280"/>
            <a:ext cx="3600360" cy="299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5435640" y="1484280"/>
            <a:ext cx="34560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E1C1-56CD-42E9-86DF-8B1BF46902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щита проектов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Симметрия в биологии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887640" cy="3154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2195640" y="3429000"/>
            <a:ext cx="4608360" cy="3241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6588000" y="1484280"/>
            <a:ext cx="230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6A17-7CF1-47E8-9154-FCBF91A8D1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щита проектов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Симметрия в русском языке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960720" cy="31478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4284720" y="2852640"/>
            <a:ext cx="424800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16CE-90CB-4E66-BAC4-640D57A15C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щита проектов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Симметрия в архитектуре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84036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12A6-CFCD-4B64-9640-D8A301E4B8B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флекс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71280" y="4221000"/>
            <a:ext cx="2601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Зна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Не зн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Узнал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Поня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5076720" y="119700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3"/>
          <a:stretch/>
        </p:blipFill>
        <p:spPr>
          <a:xfrm>
            <a:off x="3924360" y="3645000"/>
            <a:ext cx="3672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3F5F-60FD-4BCD-9B0C-56D3F20D2C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флексия (ответы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4452480"/>
            <a:ext cx="3106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лад – знания, которые мы получаем!!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392720" cy="3294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4968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0A04-B899-42D6-BC74-3F60039A7D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дведение итог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16480" y="4723920"/>
            <a:ext cx="382752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града за плодотворную работу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103640" cy="2449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3961080" cy="2971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"/>
          <p:cNvPicPr/>
          <p:nvPr/>
        </p:nvPicPr>
        <p:blipFill>
          <a:blip r:embed="rId3"/>
          <a:stretch/>
        </p:blipFill>
        <p:spPr>
          <a:xfrm>
            <a:off x="1042920" y="3933720"/>
            <a:ext cx="381636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1526-84F8-4BAA-86B3-6DB6644078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рганизационный момен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26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бор места в группе, группы, товарища, настрой на работ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3960720" cy="3097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258920" y="3429000"/>
            <a:ext cx="37447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7A30-BB6F-4522-8F4C-FB98267A98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отивац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44020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гадка, поиск решения, предположения. УРА! Правильный ответ!!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20322" t="10446" r="4686" b="-125"/>
          <a:stretch/>
        </p:blipFill>
        <p:spPr>
          <a:xfrm>
            <a:off x="5364000" y="260280"/>
            <a:ext cx="3456000" cy="3095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3492360" y="3141720"/>
            <a:ext cx="3961080" cy="3024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31687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7134-0B97-4F4B-B23D-E89A8FE1B9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ступительное слово учител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кскурс в теорию, распределение обязанностей, действий в групп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3384360" cy="2709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3132000" y="3573360"/>
            <a:ext cx="3240360" cy="252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280836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3E34-9158-4860-96DA-72823E40B0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абота в группах (биолаборатория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608360" cy="3720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428436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34BD-A80A-4ADC-A62E-88294E0E8A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ект работы биолаборатор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927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A855-E940-43DB-8D04-EC5F4F3C26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абота в группах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(центр практической геометрии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600360" cy="2860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3276720" y="3645000"/>
            <a:ext cx="4246560" cy="3004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5219640" y="1484280"/>
            <a:ext cx="35290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CA96-DFDE-4B3F-8749-F3FF89EC3F2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ект работы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центра практической геометри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927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FE66-1035-4E7F-9440-84689EB45CF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Работа в группах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(мастерская словесности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743280" cy="3303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6443640" y="1413000"/>
            <a:ext cx="2448000" cy="4319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3059280" y="3357720"/>
            <a:ext cx="4105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2:01:35Z</dcterms:created>
  <dc:creator>User</dc:creator>
  <dc:description/>
  <dc:language>en-US</dc:language>
  <cp:lastModifiedBy>galim</cp:lastModifiedBy>
  <dcterms:modified xsi:type="dcterms:W3CDTF">2025-08-18T13:36:33Z</dcterms:modified>
  <cp:revision>8</cp:revision>
  <dc:subject/>
  <dc:title>«Симметрия вокруг нас».</dc:title>
</cp:coreProperties>
</file>